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55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93840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177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6272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77068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38400" y="877068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22DF057-5A61-43C2-9391-ED42EE98F8A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7000" y="4385880"/>
            <a:ext cx="509904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5080" y="6408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787640" y="63813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Diseño de un Sistema de Vigilancia de la Calidad del Agua Potable Urbana (SVCAPU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2920" y="3500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strategia para el desarro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modelos de si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tapa 2 del reglamento DBPR elaborado por la US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tender los puntos de mayor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valuación inicial del sistema (IDSE) mediante el uso de modelos hidrául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comiendan utilizar 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000" y="134100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 Caso Bras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2427120"/>
            <a:ext cx="6489720" cy="4192920"/>
          </a:xfrm>
          <a:prstGeom prst="rect">
            <a:avLst/>
          </a:prstGeom>
          <a:ln w="15840">
            <a:solidFill>
              <a:srgbClr val="003366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53006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Fuente: Vasconcelos et 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Elaboración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tastro actualizado y digital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sonal capacitado en la elaboración de mode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quipo de cómputo y soft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Calibración hidráulica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diciones continuas de flujo y presión (ma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pacidad y patrón de flujo en los tanques d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urvas de operación de los equipos de bomb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gistro del consumo (mi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udios con traza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álisis continuos de los componentes a simula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udio de laboratorio para determinar coeficientes de decai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antenimiento del mod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ualizar cuando se realicen cambios en l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erificar constantemente contra mediciones en camp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plicación en vigil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ólo es redituable si también se utilizan en acciones de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ahoma"/>
              </a:rPr>
              <a:t>El sistema de vigilancia funciona más eficientemente en sistema control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7545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esto: se propone una </a:t>
            </a: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strategia de desarroll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modelos a partir de su aplicación en el control de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506920" y="2593800"/>
            <a:ext cx="34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arrollo gra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nsidera el estado de desarrollo actual d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ada actividad requerida para elaborar el modelo trae beneficios inmedi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explican los beneficios del uso de modelos en actividade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647720"/>
            <a:ext cx="37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ahoma"/>
              </a:rPr>
              <a:t>Características de la estrategia de desarrollo de mod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1773360"/>
            <a:ext cx="5292720" cy="4012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alphaModFix amt="30000"/>
          </a:blip>
          <a:stretch/>
        </p:blipFill>
        <p:spPr>
          <a:xfrm>
            <a:off x="357120" y="127080"/>
            <a:ext cx="8280360" cy="647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97040" y="150840"/>
            <a:ext cx="4389840" cy="5814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eneficios inmedi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489640"/>
            <a:ext cx="3024000" cy="14346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uías de la estrategi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e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00280"/>
          <a:ext cx="8229600" cy="40831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66120"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Fase de desarro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preli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ición de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es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818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o hidrául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ro y macromed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gitalización del catast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aboración de modelos hidráulicos para aplicaciones de planeación (de la red primaria, de estado estacionari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172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hidrául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delos de simulación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ización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los modelos hidráulicos (E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de calidad del 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activo de fugas (ALC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udios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rowSpan="2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nimiento del mode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ualización de los modelos y mejora de la exactitud de sus simul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licaciones en actividades avanzadas de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46200" y="-4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ectorización conceptu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6265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Sector conceptual: sector identificado en planos que se convertirá en un sector de red secund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El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ector</a:t>
            </a: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 como unidad geográfica básica del SV: espacio que ocupa la población que se ve afectada por un conjunto único de factores de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El sector conceptual definirá los sitios de muestreo inici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La sectorización sirve a los objetivos del control y la vigila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0" r="42812" b="0"/>
          <a:stretch/>
        </p:blipFill>
        <p:spPr>
          <a:xfrm>
            <a:off x="6656400" y="2421000"/>
            <a:ext cx="2308320" cy="30290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: Modelo hidrául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icro y macro med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Catastro digitaliz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Elaboración de modelos hidráulicos para planeación (Estado estacio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istema de Vigilancia (SVCAPU</a:t>
            </a: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és inicial del ERSP por identificar sitios de muestreo utilizando modelos matemáticos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ibliografía reciente sobre el 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exo A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28000" y="1752480"/>
            <a:ext cx="75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ahoma"/>
              </a:rPr>
              <a:t>Especial enfoque en el uso de mode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I: Simulac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simulación red secund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Sectorización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alibración de modelos hidrául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ntrol activo de fu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Fase III: Simulación de calidad </a:t>
            </a:r>
            <a:br>
              <a:rPr sz="3600"/>
            </a:b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del agu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c00"/>
                </a:solidFill>
                <a:latin typeface="Tahoma"/>
              </a:rPr>
              <a:t>Control de DB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Estudios de calidad del agua (Cl residu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Fase IV: Mantenimiento del modelo calibrad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1080"/>
            <a:ext cx="807552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catas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modelo y mejora de la exactitud de sus simul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nálisis costo-benefi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9000"/>
          <a:ext cx="8229600" cy="3976920"/>
        </p:xfrm>
        <a:graphic>
          <a:graphicData uri="http://schemas.openxmlformats.org/drawingml/2006/table">
            <a:tbl>
              <a:tblPr/>
              <a:tblGrid>
                <a:gridCol w="4579920"/>
                <a:gridCol w="1289160"/>
                <a:gridCol w="236052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rcentaje de ahorro de agua estim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bre demanda 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ara desarrollo del modelo (sectorización)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0,0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eriencias en Méx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del agua (Balboas/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nsidad de población (hab/Km</a:t>
                      </a:r>
                      <a:r>
                        <a:rPr b="0" lang="es-MX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(L/hab/dí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anual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5,41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Software EPA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61080" cy="269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2412720" cy="263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2187360" cy="220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773360"/>
            <a:ext cx="36003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rograma de trabaj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Gratu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mismo “engine” que los software comerci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sibilidad de modificar el código fuente para personalizar el progr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oftware WaterC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85920" cy="3063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1700280"/>
            <a:ext cx="6048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Programa de captura y aná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Es compatible con EPA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Buen servicio de atención al cliente y asistencia en línea en Latinoamérica (atienden en españo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Tienen programado un curso a realizarse en la ciudad de Panamá para el año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Su costo es similar al resto de los programas o softwares equivalentes que tienen interfase C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Elaboración del modelo hidráulico de “El Fortín</a:t>
            </a: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alphaModFix amt="60000"/>
          </a:blip>
          <a:srcRect l="43892" t="18692" r="14631" b="49325"/>
          <a:stretch/>
        </p:blipFill>
        <p:spPr>
          <a:xfrm>
            <a:off x="4284720" y="1968480"/>
            <a:ext cx="4395600" cy="3981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03120" y="1716120"/>
            <a:ext cx="376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mpresa Altos de Vistam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Información sobre su infraestructura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elaboró el modelo hidráu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Falta poca información para realizar la calibración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realizó un ejercicio de calibración con información hipot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alibració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7520" y="1295280"/>
            <a:ext cx="8267040" cy="5221080"/>
            <a:chOff x="767520" y="1295280"/>
            <a:chExt cx="8267040" cy="5221080"/>
          </a:xfrm>
        </p:grpSpPr>
        <p:sp>
          <p:nvSpPr>
            <p:cNvPr id="159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85680" y="532764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85680" y="466740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5680" y="400680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5680" y="334656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85680" y="26845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5680" y="20257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5680" y="136368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5680" y="1363680"/>
              <a:ext cx="1800" cy="462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9320" y="598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9320" y="53276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49320" y="46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49320" y="400680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9320" y="3346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49320" y="2684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9320" y="20257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9320" y="13636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85680" y="598788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856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25424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238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79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6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3320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6002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702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13992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0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7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4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1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48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5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259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2941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6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83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1038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38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4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91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1802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502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71984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9240" y="1887480"/>
              <a:ext cx="6465960" cy="2266920"/>
            </a:xfrm>
            <a:custGeom>
              <a:avLst/>
              <a:gdLst/>
              <a:ahLst/>
              <a:rect l="l" t="t" r="r" b="b"/>
              <a:pathLst>
                <a:path w="4582" h="1597">
                  <a:moveTo>
                    <a:pt x="0" y="59"/>
                  </a:moveTo>
                  <a:lnTo>
                    <a:pt x="191" y="0"/>
                  </a:lnTo>
                  <a:lnTo>
                    <a:pt x="382" y="125"/>
                  </a:lnTo>
                  <a:lnTo>
                    <a:pt x="573" y="273"/>
                  </a:lnTo>
                  <a:lnTo>
                    <a:pt x="764" y="444"/>
                  </a:lnTo>
                  <a:lnTo>
                    <a:pt x="955" y="636"/>
                  </a:lnTo>
                  <a:lnTo>
                    <a:pt x="1146" y="847"/>
                  </a:lnTo>
                  <a:lnTo>
                    <a:pt x="1337" y="1079"/>
                  </a:lnTo>
                  <a:lnTo>
                    <a:pt x="1527" y="1328"/>
                  </a:lnTo>
                  <a:lnTo>
                    <a:pt x="1718" y="1461"/>
                  </a:lnTo>
                  <a:lnTo>
                    <a:pt x="1909" y="1597"/>
                  </a:lnTo>
                  <a:lnTo>
                    <a:pt x="2100" y="1597"/>
                  </a:lnTo>
                  <a:lnTo>
                    <a:pt x="2291" y="1461"/>
                  </a:lnTo>
                  <a:lnTo>
                    <a:pt x="2482" y="1461"/>
                  </a:lnTo>
                  <a:lnTo>
                    <a:pt x="2673" y="1202"/>
                  </a:lnTo>
                  <a:lnTo>
                    <a:pt x="2864" y="1079"/>
                  </a:lnTo>
                  <a:lnTo>
                    <a:pt x="3055" y="961"/>
                  </a:lnTo>
                  <a:lnTo>
                    <a:pt x="3245" y="847"/>
                  </a:lnTo>
                  <a:lnTo>
                    <a:pt x="3436" y="739"/>
                  </a:lnTo>
                  <a:lnTo>
                    <a:pt x="3627" y="636"/>
                  </a:lnTo>
                  <a:lnTo>
                    <a:pt x="3818" y="537"/>
                  </a:lnTo>
                  <a:lnTo>
                    <a:pt x="4009" y="356"/>
                  </a:lnTo>
                  <a:lnTo>
                    <a:pt x="4200" y="273"/>
                  </a:lnTo>
                  <a:lnTo>
                    <a:pt x="4391" y="125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19240" y="1865160"/>
              <a:ext cx="6465960" cy="2252880"/>
            </a:xfrm>
            <a:custGeom>
              <a:avLst/>
              <a:gdLst/>
              <a:ahLst/>
              <a:rect l="l" t="t" r="r" b="b"/>
              <a:pathLst>
                <a:path w="4582" h="1588">
                  <a:moveTo>
                    <a:pt x="0" y="59"/>
                  </a:moveTo>
                  <a:lnTo>
                    <a:pt x="191" y="0"/>
                  </a:lnTo>
                  <a:lnTo>
                    <a:pt x="382" y="123"/>
                  </a:lnTo>
                  <a:lnTo>
                    <a:pt x="573" y="269"/>
                  </a:lnTo>
                  <a:lnTo>
                    <a:pt x="764" y="438"/>
                  </a:lnTo>
                  <a:lnTo>
                    <a:pt x="955" y="627"/>
                  </a:lnTo>
                  <a:lnTo>
                    <a:pt x="1146" y="839"/>
                  </a:lnTo>
                  <a:lnTo>
                    <a:pt x="1337" y="1070"/>
                  </a:lnTo>
                  <a:lnTo>
                    <a:pt x="1527" y="1319"/>
                  </a:lnTo>
                  <a:lnTo>
                    <a:pt x="1718" y="1452"/>
                  </a:lnTo>
                  <a:lnTo>
                    <a:pt x="1909" y="1588"/>
                  </a:lnTo>
                  <a:lnTo>
                    <a:pt x="2100" y="1588"/>
                  </a:lnTo>
                  <a:lnTo>
                    <a:pt x="2291" y="1452"/>
                  </a:lnTo>
                  <a:lnTo>
                    <a:pt x="2482" y="1452"/>
                  </a:lnTo>
                  <a:lnTo>
                    <a:pt x="2673" y="1192"/>
                  </a:lnTo>
                  <a:lnTo>
                    <a:pt x="2864" y="1070"/>
                  </a:lnTo>
                  <a:lnTo>
                    <a:pt x="3055" y="952"/>
                  </a:lnTo>
                  <a:lnTo>
                    <a:pt x="3245" y="839"/>
                  </a:lnTo>
                  <a:lnTo>
                    <a:pt x="3436" y="731"/>
                  </a:lnTo>
                  <a:lnTo>
                    <a:pt x="3627" y="627"/>
                  </a:lnTo>
                  <a:lnTo>
                    <a:pt x="3818" y="530"/>
                  </a:lnTo>
                  <a:lnTo>
                    <a:pt x="4009" y="350"/>
                  </a:lnTo>
                  <a:lnTo>
                    <a:pt x="4200" y="269"/>
                  </a:lnTo>
                  <a:lnTo>
                    <a:pt x="4391" y="123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9000" y="1941480"/>
              <a:ext cx="6048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59000" y="185724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28640" y="2035080"/>
              <a:ext cx="5904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8640" y="2487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6840" y="2760840"/>
              <a:ext cx="6012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684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6480" y="338940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3741840"/>
              <a:ext cx="59040" cy="601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146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2880" y="4124160"/>
              <a:ext cx="60480" cy="590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2880" y="4124160"/>
              <a:ext cx="58680" cy="590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28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9252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8" y="0"/>
                  </a:moveTo>
                  <a:lnTo>
                    <a:pt x="75" y="38"/>
                  </a:lnTo>
                  <a:lnTo>
                    <a:pt x="38" y="76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2520" y="3564000"/>
              <a:ext cx="58680" cy="586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720" y="3389400"/>
              <a:ext cx="604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0720" y="322092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892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38920" y="290664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8560" y="2760840"/>
              <a:ext cx="5904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2619360"/>
              <a:ext cx="6012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6760" y="236232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1676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6760" y="20350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6400" y="1941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9000" y="1919160"/>
              <a:ext cx="604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9000" y="18352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8640" y="2009880"/>
              <a:ext cx="5904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9864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8640" y="2455920"/>
              <a:ext cx="5868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36840" y="2724120"/>
              <a:ext cx="6012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684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6480" y="335268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4680" y="3706920"/>
              <a:ext cx="5904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46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2880" y="408780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52880" y="408780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8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9252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52584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30720" y="335268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00720" y="31860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892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38920" y="287172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8560" y="2724120"/>
              <a:ext cx="5904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2587680"/>
              <a:ext cx="6012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6760" y="23320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676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760" y="20098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56400" y="19191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7520" y="5919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7520" y="5259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4599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7520" y="3938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7520" y="3278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520" y="2616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7520" y="195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520" y="1295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7988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10670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133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160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187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21463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24148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26845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295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322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349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376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403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430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457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484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51087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537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564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591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618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645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672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699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7126200" y="6240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: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12000" y="3500280"/>
              <a:ext cx="1222560" cy="505080"/>
            </a:xfrm>
            <a:prstGeom prst="rect">
              <a:avLst/>
            </a:prstGeom>
            <a:solidFill>
              <a:srgbClr val="e9e9e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53400" y="3591000"/>
              <a:ext cx="236520" cy="144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0520" y="3560760"/>
              <a:ext cx="6048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80920" y="3525840"/>
              <a:ext cx="86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ahoma"/>
                </a:rPr>
                <a:t>Simu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53400" y="3828960"/>
              <a:ext cx="236520" cy="180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0520" y="3795840"/>
              <a:ext cx="604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13320" y="370044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ffff"/>
                </a:solidFill>
                <a:latin typeface="Tahoma"/>
              </a:rPr>
              <a:t>Simulación de residual de C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uso de modelos en vigilancia es útil, pero el desarrollo de modelos es una tarea que demanda muchos recurs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r este motivo se propuso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strategia de desarrollo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de modelos que propone un trabajo gradual y resalta lo beneficios en contro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Se propone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como una estrategia de control y con aplicaciones en la vigilanci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Como parte de la estrategia se seleccionaron los software con que se desarrollarán los modelos, se capacitó al personal del ERSP en su uso y se adquirió una licencia de WaterCA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ahoma"/>
              </a:rPr>
              <a:t>Modelo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presentación de una red hidráulica existente mediante un software y la información que describe l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Calib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 el procedimiento de realizar ajustes a los parámetros del modelo (rugosidad, demandas, fugas, controles, niveles en tanques, etc.) para que se obtengan resultados que representen mediciones reales con cierto grado de exactitu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Simul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on los resultados que ofrece un modelo calibrado y que representan con cierto nivel de confiabilidad las condiciones de operación reales  de un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59040" y="144792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9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Es una herramienta que permite entender el comportamiento de un sistema complejo y con la que es posible simular el com-portamiento del sistema en diferentes situaciones hipotéticas</a:t>
            </a: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06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Modelo hidráu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lujo en cada tubo, presión en cada no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Procedencia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no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1577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La calibración puede tener diferentes niveles de exact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213000"/>
            <a:ext cx="360360" cy="1728720"/>
          </a:xfrm>
          <a:custGeom>
            <a:avLst/>
            <a:gdLst>
              <a:gd name="textAreaLeft" fmla="*/ 0 w 360360"/>
              <a:gd name="textAreaRight" fmla="*/ 12996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57516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arámetros hidráulicos que funcionan como indicadores de la calidad del a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s variaciones son ocasionadas por advección (modelo hidráulico) y reacciones fisicoquímic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orma de estudiar las variaciones temporales y espaciales de la cali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plica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ontrol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contro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se consigue cuando se comprende el comportamiento del agua en la red y es posible modificar ese comportamien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sectorización en Méx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Vigil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EPA y Brasi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torización en Ciudad de Mé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Secto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porción de la red secundaria aislada del resto de la red hidráulica del siste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s modelos se utilizaron para diseñar los sectores y estimar reducción de fug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horro gracias al control de presión y el control activo de fugas (ALC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293840"/>
            <a:ext cx="7345440" cy="5508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46960" y="5589720"/>
            <a:ext cx="52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Reducción de fugas de f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040" y="40176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8:54Z</dcterms:created>
  <dc:creator>Jorge Eugenio Barrios Ordóñez</dc:creator>
  <dc:description/>
  <dc:language>en-US</dc:language>
  <cp:lastModifiedBy>Arturo Tapia</cp:lastModifiedBy>
  <dcterms:modified xsi:type="dcterms:W3CDTF">2004-01-31T17:16:49Z</dcterms:modified>
  <cp:revision>95</cp:revision>
  <dc:subject/>
  <dc:title>Sistema de Vigilancia de la Calidad del Agua Potable en Zonas Rur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3810437</vt:r8>
  </property>
  <property fmtid="{D5CDD505-2E9C-101B-9397-08002B2CF9AE}" pid="3" name="_AuthorEmail">
    <vt:lpwstr>eugeniob@infosel.net.mx</vt:lpwstr>
  </property>
  <property fmtid="{D5CDD505-2E9C-101B-9397-08002B2CF9AE}" pid="4" name="_AuthorEmailDisplayName">
    <vt:lpwstr>J. Eugenio Barrios O.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